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683373-BD58-4634-B161-D5CA6288C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5DAFFC-1190-4DC1-860F-6B2F2DA06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A155-4456-4291-8FE5-12F87589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4EA-F127-46F8-98E4-DF5A0CC4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661-7381-4FDB-9840-73E8DA10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C056-C94C-4592-82B0-C496AC9F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E93F-069A-49AD-A397-8E80DDBD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1C89-AB44-4EC3-AB80-F946ABAB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92E5-E7FA-4E85-8752-3CA4D9D4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C384-5367-4177-A072-BC195BA0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F609-B634-4441-9ADB-2B5B21D6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F7FA-E9FB-40A5-86FA-09353C5B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BD33-EADE-4105-80C2-8F2BEDC8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466A-9C81-46B1-BBC1-FB71F90E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C6F9-71E3-43BD-9374-A3B20B4C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E8A5-FA4E-4F97-85CA-28E16BCA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F46D-2521-4F99-8896-F402C9E5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641F-C53E-42C4-83FE-414F958FB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B858-BA5B-4F0D-AC72-B645273B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2980D-FAAE-475D-8EF7-AFC9E52DD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FFD9C-8FA2-46C2-8568-36D59AC8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F0141-9C18-4747-B8ED-41D2D372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C96AA-DF12-438D-8281-962CFE47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A47F7-D2CC-4DF4-9CF8-E7854532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794B-F36F-4823-8BB2-3B449ADB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D042D-8B7B-4B87-A2BB-B8BBA45D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96981-6668-4826-8992-14407ED9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C65A5-A951-4E4B-80C5-CE617D46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07B48-39B1-4F7E-AB92-0E9E4463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C52E0-DAD4-40BD-A801-0031BC2F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173B7-36CD-4422-8FD0-15178815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1CD5A-8403-43BD-AE00-CCF1E4ED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8FE-4E2B-42BE-A1C9-DD00FCE9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CACA-A03C-443B-BA81-C517881D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A223-3D73-4583-9A14-2EDB2E63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15F-769A-4B53-905C-2C057E84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44D7-A283-4A5E-8C9E-B3C874AC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3B4-82BE-4B21-816E-9FD9862F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1DF5-64C1-4B6A-BC50-B0678EC77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B262-DE84-4B78-AE1E-6F01CF3CEB4D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200400" y="6171840"/>
            <a:ext cx="36576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DC75-F427-4546-9DA6-B71E6A0CA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5"/>
          <p:cNvSpPr/>
          <p:nvPr/>
        </p:nvSpPr>
        <p:spPr>
          <a:xfrm>
            <a:off x="2819520" y="6019920"/>
            <a:ext cx="365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32C3-AB3E-4048-B669-8F3C3BCBF1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99"/>
                </a:solidFill>
                <a:latin typeface="Tahoma"/>
              </a:rPr>
              <a:t>Working with Diverse Families and Communities 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Tahoma"/>
              </a:rPr>
              <a:t>Day 1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Diversit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1600200" cy="1447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Lead%20Logo-no%20flag-PC"/>
          <p:cNvPicPr/>
          <p:nvPr/>
        </p:nvPicPr>
        <p:blipFill>
          <a:blip r:embed="rId2"/>
          <a:stretch/>
        </p:blipFill>
        <p:spPr>
          <a:xfrm>
            <a:off x="6934320" y="685800"/>
            <a:ext cx="167616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4"/>
          <p:cNvSpPr/>
          <p:nvPr/>
        </p:nvSpPr>
        <p:spPr>
          <a:xfrm>
            <a:off x="3276720" y="6172200"/>
            <a:ext cx="35049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6D77-24AD-4687-A87B-7F4EB06E8D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ablishing Community Partnersh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se the “Each Teach” strategy, from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Adaptive School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by Garmston and Wellman.  The Each Teach strate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hecks understanding, integrates information,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dentifies ideas that require clarific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artners both read the first text.  Partner A descri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reading to Partner B, as if the other person wa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n the room.  Partner B fills in any gaps that may h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not been addressed by Partner A.  The partners ed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ach other’s rendition until they agree on what w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a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3124080" y="6248520"/>
            <a:ext cx="34290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0C70-276C-4878-B0B7-33D56C9943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ablishing Community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 Partnersh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763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se the excerpts from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Continuity in Early Childhood: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Framework for Home, School, and Community Linkag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able groups should consist of four members.  Throu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use of the Each Teach strategy, the group wi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iscuss each of the topics.  They should be given 2-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inutes to read and 2-3 minutes to complete th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trategy for each of the five sections: 1) Families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artners (page 15); 2) Shared Leadership (pages 27-28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3) Culture and Home Language (pages 53-54, 69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4) Communication (pages 81-82); and 5) Knowledge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kill Development (pages 93-94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4"/>
          <p:cNvSpPr/>
          <p:nvPr/>
        </p:nvSpPr>
        <p:spPr>
          <a:xfrm>
            <a:off x="3124080" y="6248520"/>
            <a:ext cx="34290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DDD2-8D1A-42D1-9019-10CA0EDE0E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ablishing Community Partnersh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our group received the Snapshot of a Scho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ake some time to reflect on the data with t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ramework in mind.  Address each of the elem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 complete the evaluation document in t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ramework which, for example, is pages 16-24 of t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amilies as Partners section. Cite evidences from t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napshot of the School.  This may take a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s 5 minutes.  Groups will share out what they h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ound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4"/>
          <p:cNvSpPr/>
          <p:nvPr/>
        </p:nvSpPr>
        <p:spPr>
          <a:xfrm>
            <a:off x="2819520" y="6248520"/>
            <a:ext cx="37335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F7FA-F53B-4114-908B-456C8ED493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152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unicating Regularly and Predictably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4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Communicating the Vision for Partn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Objective: To learn about strategies for incorporating your vision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partnering into your print med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irec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ontinue to work with your partner from the previous activ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ake out both of your school newsletters.  Choose one to focus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valuate your school newsletter using the five elements from </a:t>
            </a: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A Framework for Home, School, and Community Linkages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ialogue about your “ahas.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f partnerships with families and community are a part of your schools vision, how is this value communicated in the newslett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How could this newsletter be changed to better communicate the school’s vision for partnership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5"/>
          <p:cNvSpPr/>
          <p:nvPr/>
        </p:nvSpPr>
        <p:spPr>
          <a:xfrm>
            <a:off x="3124080" y="6248520"/>
            <a:ext cx="34290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25E1-42A8-40B2-8CB0-E0162F9CBD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unicating Regularly and Predictab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Ref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nsidering the vision you wrote i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Vision course, does your v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nclude a focus on partnership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How should your print/we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edia communicate this vis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16" descr=""/>
          <p:cNvPicPr/>
          <p:nvPr/>
        </p:nvPicPr>
        <p:blipFill>
          <a:blip r:embed="rId1"/>
          <a:stretch/>
        </p:blipFill>
        <p:spPr>
          <a:xfrm>
            <a:off x="6705720" y="3048120"/>
            <a:ext cx="165420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5"/>
          <p:cNvSpPr/>
          <p:nvPr/>
        </p:nvSpPr>
        <p:spPr>
          <a:xfrm>
            <a:off x="3086280" y="6267600"/>
            <a:ext cx="34668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F7B6-E2ED-4A5A-94C0-8605299EDE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ressing Language Diversity in Scho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65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sing the information that you gathered from yo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chool’s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Schools Accountability Report Card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and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ources as a table group of no more than s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articipants, chart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anguages sp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ays that the school and/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istricts meet these parents’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re values of these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9" name="Picture 4" descr="j0233018"/>
          <p:cNvPicPr/>
          <p:nvPr/>
        </p:nvPicPr>
        <p:blipFill>
          <a:blip r:embed="rId1"/>
          <a:stretch/>
        </p:blipFill>
        <p:spPr>
          <a:xfrm>
            <a:off x="6629400" y="4038480"/>
            <a:ext cx="186516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4"/>
          <p:cNvSpPr/>
          <p:nvPr/>
        </p:nvSpPr>
        <p:spPr>
          <a:xfrm>
            <a:off x="2895480" y="6172200"/>
            <a:ext cx="36576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3C02-F393-42B2-9A2F-C96AE78406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ddressing Language Diversity in School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orking with your table group, out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e steps you would take as a principal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mprove communication with variou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s.  Select a spokesperson to sh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th the total group your table’s a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pl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4"/>
          <p:cNvSpPr/>
          <p:nvPr/>
        </p:nvSpPr>
        <p:spPr>
          <a:xfrm>
            <a:off x="3200400" y="6172200"/>
            <a:ext cx="3657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7A0F-5B61-459D-8D63-42A682DE51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ff Meeting Presentation on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Diverse Famil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cenari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ou have a diverse middle school campus with twen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ifferent home languages spoken.  Forty percent 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our student population is considered English learner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ne half of these students are currently enrolled in 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nglish Learner language arts course in addition to the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language arts core program.  A district survey was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o families recently and the data indicate that t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tudents and their parents do not feel they are invol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n a meaningful wa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5"/>
          <p:cNvSpPr/>
          <p:nvPr/>
        </p:nvSpPr>
        <p:spPr>
          <a:xfrm>
            <a:off x="3124080" y="6248520"/>
            <a:ext cx="34290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0B51-AC12-4C84-8F36-1B571B70F7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aff Meeting Presentation on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     Diverse Famil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reate an eight-minute presentation that includes PowerPoint that could be used at a staff meeting with the teachers at the school described above.  This presentation should address the needs and a plan to include diverse families at the school sit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ach group of six members may use o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of the computers provid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Keep in mind you have 40 minutes to cre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PowerPoint and the presentation material.  Presentations may include one or more presen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se the provided feedback form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4" descr="pe01561_[1]"/>
          <p:cNvPicPr/>
          <p:nvPr/>
        </p:nvPicPr>
        <p:blipFill>
          <a:blip r:embed="rId1"/>
          <a:stretch/>
        </p:blipFill>
        <p:spPr>
          <a:xfrm>
            <a:off x="6553080" y="3156120"/>
            <a:ext cx="2133720" cy="14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5"/>
          <p:cNvSpPr/>
          <p:nvPr/>
        </p:nvSpPr>
        <p:spPr>
          <a:xfrm>
            <a:off x="2971800" y="6172200"/>
            <a:ext cx="35812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E088-15F0-478F-B549-777CDF3047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3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eryone participa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ructor will use presentation feedback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29480" indent="-4294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ch group will do one presentation, choices ar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5680" indent="-4294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ff development plan on Divers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81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 months – one hour each mon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81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lude classified and certified staf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81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 materials and/or curricul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81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lude specific outc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81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5680" indent="-4294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ent Involvement Pl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81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olve different parent group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81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 materials and/or curricul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81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clude specific outco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81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81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2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7" name="Picture 4" descr="MPj03998880000[1]"/>
          <p:cNvPicPr/>
          <p:nvPr/>
        </p:nvPicPr>
        <p:blipFill>
          <a:blip r:embed="rId1"/>
          <a:stretch/>
        </p:blipFill>
        <p:spPr>
          <a:xfrm>
            <a:off x="5715000" y="685800"/>
            <a:ext cx="14810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3200400" y="6172200"/>
            <a:ext cx="3657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A4D5-F57E-4A00-9ABF-0C5925385B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22000"/>
            <a:ext cx="7772400" cy="36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emonstrate an understanding of the importance of incorporating the perspectives of families and community members into the decision-making process of the scho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dentify existing gaps in incorporating family and community involve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mplement a plan for addressing needs and capitalizing on strengths of family and community involve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evelop a process for maintaining and assessing communication strateg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Be able to generate new strategies for communicating with families/community me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5"/>
          <p:cNvSpPr/>
          <p:nvPr/>
        </p:nvSpPr>
        <p:spPr>
          <a:xfrm>
            <a:off x="3276720" y="6172200"/>
            <a:ext cx="3657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CD88-DC0A-43FB-8479-772247EE75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entation Feedback 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3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143000" y="2057400"/>
          <a:ext cx="7812000" cy="4076640"/>
        </p:xfrm>
        <a:graphic>
          <a:graphicData uri="http://schemas.openxmlformats.org/drawingml/2006/table">
            <a:tbl>
              <a:tblPr/>
              <a:tblGrid>
                <a:gridCol w="1295280"/>
                <a:gridCol w="1371600"/>
                <a:gridCol w="1241640"/>
                <a:gridCol w="182520"/>
                <a:gridCol w="1430280"/>
                <a:gridCol w="1380960"/>
                <a:gridCol w="909720"/>
              </a:tblGrid>
              <a:tr h="2811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Name: 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Instructor: 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Date of Presentation: 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Title of Work: 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ri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o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Organ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Audience cannot understand presentation because there is no sequence of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Audience has difficulty following presentation because student jumps aroun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presents information in logical sequence which audience can fol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presents information in logical, interesting sequence which audience can fol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ontent Knowled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does not have grasp of information; student cannot answer questions about subjec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is uncomfortable with information and is able to answer only rudimentary questi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is at ease with content, but fails to elabora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demonstrates full knowledge (more than required) with explanations and elabo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4"/>
          <p:cNvSpPr/>
          <p:nvPr/>
        </p:nvSpPr>
        <p:spPr>
          <a:xfrm>
            <a:off x="3200400" y="6248520"/>
            <a:ext cx="37339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BE3F-034E-4193-8B4C-A9862A5BB1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entation Feedback 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990720" y="2209680"/>
          <a:ext cx="7772400" cy="4024440"/>
        </p:xfrm>
        <a:graphic>
          <a:graphicData uri="http://schemas.openxmlformats.org/drawingml/2006/table">
            <a:tbl>
              <a:tblPr/>
              <a:tblGrid>
                <a:gridCol w="1295280"/>
                <a:gridCol w="1295280"/>
                <a:gridCol w="1297080"/>
                <a:gridCol w="1293840"/>
                <a:gridCol w="1712880"/>
                <a:gridCol w="878040"/>
              </a:tblGrid>
              <a:tr h="274680">
                <a:tc gridSpan="3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Name: 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Instructor: 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3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Date of Presentation: 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Title of Work: 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ri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o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Vis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used no visual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occasionally used visuals/charts that rarely support text and present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Visuals/charts related to text and present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used visuals/charts to reinforce screen text and present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Mechan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’s presentation had four or more spelling errors and/or grammatical erro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esentation had three misspellings and/or grammatical erro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esentation had no more than two misspellings and/or grammatical erro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resentation has no misspellings or grammatical error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3124080" y="6095880"/>
            <a:ext cx="35053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E6A1-7251-4FFB-8BAF-7E27F639BF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sentation Feedback For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838080" y="2066760"/>
          <a:ext cx="7772400" cy="402912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7080"/>
                <a:gridCol w="1293840"/>
                <a:gridCol w="1865160"/>
                <a:gridCol w="725400"/>
              </a:tblGrid>
              <a:tr h="274320">
                <a:tc gridSpan="3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Name: 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Instructor: 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 gridSpan="3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Date of Presentation: 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Title of Work: 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rite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oi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700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Deliv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mumbles, incorrectly pronounces terms, and speaks too quietly for students in back of class to hea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incorrectly pronounces terms.  Audience members have difficulty hearing present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’s voice is clear.  Student pronounces most words correctl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Student used a clear voice and correct, precise pronunciation of ter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Total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 gridSpan="6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omment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_____________________________________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5"/>
          <p:cNvSpPr/>
          <p:nvPr/>
        </p:nvSpPr>
        <p:spPr>
          <a:xfrm>
            <a:off x="2971800" y="6172200"/>
            <a:ext cx="35812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A0E1-2353-4268-89AC-790B483635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3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hat Families Wa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y Wadsworth and Hamill Remale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no more than two paragraphs on the following promp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should we refocus our energies on redesign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hools to fit changing demographic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your response on the Wikispaces, Diverse Families and Communities web si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onal: Respond to your colleague’s contribu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Picture 4" descr="MPj03998880000[1]"/>
          <p:cNvPicPr/>
          <p:nvPr/>
        </p:nvPicPr>
        <p:blipFill>
          <a:blip r:embed="rId1"/>
          <a:stretch/>
        </p:blipFill>
        <p:spPr>
          <a:xfrm>
            <a:off x="5715000" y="685800"/>
            <a:ext cx="14810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3200400" y="6172200"/>
            <a:ext cx="3657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2AD8-1D79-4640-817D-5B97854E69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view of California Professional Standards for Educational Leaders Number Fo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acilitating Parent Involvement and Parent Edu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stablishing Community Partner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ommunicating Regularly and Predicta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ddressing Language Diversity in Sch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reating a PowerPoint presentation on Diverse Famil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acticum and Days 9-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5"/>
          <p:cNvSpPr/>
          <p:nvPr/>
        </p:nvSpPr>
        <p:spPr>
          <a:xfrm>
            <a:off x="2895480" y="6248520"/>
            <a:ext cx="36576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77AE-A280-4958-A29D-4AF6F1F6AB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12680" y="304560"/>
            <a:ext cx="601164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ndard Number Fou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5400" y="2017800"/>
            <a:ext cx="773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ead CPSELS Standard Four and highlight three or fo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deas that you recognize as being important for the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rincipal.  Find a partner across the room that you 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not know well.  Have a standing discussion, exchan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your ideas from this standa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7" descr="MCj02934980000[1]"/>
          <p:cNvPicPr/>
          <p:nvPr/>
        </p:nvPicPr>
        <p:blipFill>
          <a:blip r:embed="rId1"/>
          <a:stretch/>
        </p:blipFill>
        <p:spPr>
          <a:xfrm>
            <a:off x="3886200" y="2590920"/>
            <a:ext cx="155412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200400" y="6172200"/>
            <a:ext cx="3657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A07D-B7D2-41E2-98C3-40B5B94879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acilitating Parent Involvement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  and Parent Edu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ebrief the two articl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From Fundraising to Hell Rais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How Community Contributes to Achiev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wo sets of questions have been posted around the room.  Your group will be participating in a Carousel, answering the following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How have you invited different cultures to participate at your school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How does your staff ensure that parents feel welcome at your school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How has your school involved parents from different cultures in decision making at your school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200400" y="6172200"/>
            <a:ext cx="36576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61D6-C2AD-46DE-A87B-02657918DBB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3072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acilitating Parent Invol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     and Parent Educ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recorder will write your group’s ideas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e chart and at the signal you will move in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lockwise direction to the next chart.  If y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gree with others’ comments/ideas, put a che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ark and add your new ideas.  When you h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visited all three charts you will do a gallery wal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o see what others have writt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ebrief as an entire gro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5"/>
          <p:cNvSpPr/>
          <p:nvPr/>
        </p:nvSpPr>
        <p:spPr>
          <a:xfrm>
            <a:off x="3200400" y="6248520"/>
            <a:ext cx="35812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03A1-E802-45AA-9769-EE2432D1DE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ablishing Community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           Partnersh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1905120"/>
            <a:ext cx="773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ion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ack and stack and sit at a table with f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eople.  A table may have a group of f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eople at each en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4" descr="j0398383[1]"/>
          <p:cNvPicPr/>
          <p:nvPr/>
        </p:nvPicPr>
        <p:blipFill>
          <a:blip r:embed="rId1"/>
          <a:stretch/>
        </p:blipFill>
        <p:spPr>
          <a:xfrm>
            <a:off x="3429000" y="4114800"/>
            <a:ext cx="2971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3124080" y="6248520"/>
            <a:ext cx="34290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1C92-C61F-472A-A28E-3A4C0787AD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ablishing Community Partnersh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 Snapshot of a Sch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Continuity in Early Childhood: A Framework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Home, School, and Community Linkages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cognized in the educational community as 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xemplary resource for developing partn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for all grade levels and school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3048120" y="6248520"/>
            <a:ext cx="3504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ange County Department of Education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6E72-CDB9-4F50-A63A-5B804CE02C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ablishing Community Partnersh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document, in its second edition, w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 result of collaboration among t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dministration of Children, Youth, and Famil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ACYF); U.S. Department of Health and Hum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rvices; the Office of Educational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nd Improvement (OERI); U.S. Department o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ducation; and the Regional Education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oratories (REL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23:31:02Z</dcterms:created>
  <dc:creator>Kathy Hill</dc:creator>
  <dc:description/>
  <dc:language>en-US</dc:language>
  <cp:lastModifiedBy>John Doe</cp:lastModifiedBy>
  <dcterms:modified xsi:type="dcterms:W3CDTF">2011-05-10T05:06:48Z</dcterms:modified>
  <cp:revision>154</cp:revision>
  <dc:subject/>
  <dc:title>Slide 1</dc:title>
</cp:coreProperties>
</file>